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0F43-805B-4250-B379-B48C0FA84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9001-F99A-43BB-8DD5-42E42636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5BA-71ED-47D0-856D-F94ECBDC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45C-E994-47A8-A169-79238CC9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556-7CCB-423D-9352-D2E9DFBE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596-9369-4B4B-94FA-9D23485A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354-DF6A-4B7E-9D11-CEB8CAAC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1D7-895A-45B6-BC9C-53A1689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C3A-0F1F-4591-ADA6-11FF9A81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7C5-2AD4-4E2D-86EB-5D60465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3C5-2451-4484-A56A-140BE2AB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FAD-C8CD-4A90-894B-FE024F0F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D8E-6282-468E-8ADF-D0CAEA2C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6FD-1D69-4909-AFE5-5EF5F8BB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4560-9731-4E31-8A03-23100F339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4000" y="333360"/>
          <a:ext cx="8424720" cy="37008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verview of Scheme of Work for Four Quartets: T.S. Eliot and Spiritua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24000" y="836640"/>
          <a:ext cx="8424720" cy="371520"/>
        </p:xfrm>
        <a:graphic>
          <a:graphicData uri="http://schemas.openxmlformats.org/drawingml/2006/table">
            <a:tbl>
              <a:tblPr/>
              <a:tblGrid>
                <a:gridCol w="1684080"/>
                <a:gridCol w="1685880"/>
                <a:gridCol w="1684440"/>
                <a:gridCol w="1685880"/>
                <a:gridCol w="16844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Symbo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Suff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Free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66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24000" y="1254240"/>
          <a:ext cx="8424720" cy="5394240"/>
        </p:xfrm>
        <a:graphic>
          <a:graphicData uri="http://schemas.openxmlformats.org/drawingml/2006/table">
            <a:tbl>
              <a:tblPr/>
              <a:tblGrid>
                <a:gridCol w="1684080"/>
                <a:gridCol w="1685880"/>
                <a:gridCol w="1684440"/>
                <a:gridCol w="1785960"/>
                <a:gridCol w="1584360"/>
              </a:tblGrid>
              <a:tr h="539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 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ing T.S. Eliot and </a:t>
                      </a: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r Quart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es of values and pow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does it mean to be religiou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ounter with the div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ind back – returning to Eden and ‘the still point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nation and Inters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packing Symb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gious symbolism in </a:t>
                      </a: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r Quart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stical experience as ineff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‘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name is to destroy, to suggest is to create’ Eliot and the Symbolist M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ffering and the Human Condi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Q and Buddh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Q and Christia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odicy of Irenae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incidentia opposit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Q and Christia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and D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loring the concept of w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ystic 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ick So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unded Surge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lic and Sapph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"/>
          <p:cNvSpPr/>
          <p:nvPr/>
        </p:nvSpPr>
        <p:spPr>
          <a:xfrm rot="5400000">
            <a:off x="7807680" y="59094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ichard B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Explore the spiritual ‘way’ of Eliot and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within the context of William James’ analysis of the ‘healthy mindedness’ and ‘sick soul.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522520" y="112536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arter: short lecture film on William J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e via negative and dark nigh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e healthy mind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stioning activity on James’ view of healthy mind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duce sick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ck soul elements in F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pret activity: Movement 3 ‘Descend lower…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ine influence of James on F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gnorance is bliss.’  Assess this view with reference to the work of William James on healthy mindedness and sick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Wounded Surge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consider eschatological and Dark Night sections of East Coker; and examine wounded surgeon referen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Use highlighters to identify  similarities between  St John of the Cross and Eli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n eschatology in reference to spirituality and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movement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ast Co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ing St John of the Cross whilst drawing parallels between Dark Night of the Soul an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ast Co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ine Wounded Surgeon reference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the ‘distempered parts’ of the human condition?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es Christ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he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ese par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 on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r Quart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spiritual jour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690560" y="0"/>
            <a:ext cx="6621480" cy="765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Sick So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0" y="1125360"/>
            <a:ext cx="2522520" cy="316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draw parallel between Plato’s chariot and Eliot axel tree; and to summarise journey through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: T.S. Eliot and Spirituality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ss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2522520" y="1125360"/>
            <a:ext cx="4932360" cy="316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ummarise journey through </a:t>
            </a:r>
            <a:r>
              <a:rPr b="0" i="1" lang="en-GB" sz="1100" spc="-1" strike="noStrike">
                <a:solidFill>
                  <a:srgbClr val="000000"/>
                </a:solidFill>
                <a:latin typeface="Calibri"/>
              </a:rPr>
              <a:t>Four Quartets: T.S. Eliot and Spirituality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les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Plato’s horse drawn chariot and Eliot’s ‘Garlic and Sapphires in the mud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Looking back on your lesson on Four Quartets: T.S. Eliot and Spirituality how have you progressed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ake a post it note and state the following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One thing you’ve learnt that you will take away with you (the thing that had the biggest impac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tate one thing you found most challenging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he lessons have developed my knowledge and understanding of both </a:t>
            </a:r>
            <a:r>
              <a:rPr b="0" i="1" lang="en-GB" sz="1100" spc="-1" strike="noStrike">
                <a:solidFill>
                  <a:srgbClr val="000000"/>
                </a:solidFill>
                <a:latin typeface="Calibri"/>
              </a:rPr>
              <a:t>Four Quartets and Spiritualit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: Strongly ag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: Ag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: disag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: Strongly disagr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7434360" y="1125360"/>
            <a:ext cx="1714320" cy="316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1690560" y="0"/>
            <a:ext cx="6621480" cy="765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Garlic and Sapp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695600" y="0"/>
            <a:ext cx="6621480" cy="765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ing T.S. Eliot and Four Quar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give a brief background to T.S. Eliot and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to experience the poem before entering into study of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522520" y="765000"/>
            <a:ext cx="464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ggested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522520" y="1125360"/>
            <a:ext cx="464184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pt slides give information about Eliot and Four Quart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ference and website link to the 2014 novel Burnt Norton, by Lady Harrowby, current resident of Burnt Norton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scuss Eliot comment that ‘Genuine poetry can communicate before it is understoo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gether as a class. Begin with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Burnt Norto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nd read through the five movements, stopping at each to comment on your experience of the poem - the symbolism, language, tone and rhy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7164360" y="765000"/>
            <a:ext cx="199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7164360" y="1125360"/>
            <a:ext cx="198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site links hyperlinked on relevant slides. 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entres of values and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-15840" y="4554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explore the material and spiritual dimensions of human experi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/>
          <p:cNvSpPr/>
          <p:nvPr/>
        </p:nvSpPr>
        <p:spPr>
          <a:xfrm>
            <a:off x="2506680" y="4194000"/>
            <a:ext cx="465768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ggested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8"/>
          <p:cNvSpPr/>
          <p:nvPr/>
        </p:nvSpPr>
        <p:spPr>
          <a:xfrm>
            <a:off x="2523960" y="4581360"/>
            <a:ext cx="46404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wo columns out of the word on starter slide. (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wo columns represent two levels of experience which will be  referred to as the material and spiritual values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pt slides give information about centres of value and power – with reference to James Fowler and Paul Till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a survey to canvas and examine peoples on what material and spiritual values are and  what people understand by the term spiri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l thoughts on facebook image related to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7164360" y="4194000"/>
            <a:ext cx="197964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7164360" y="4554360"/>
            <a:ext cx="196848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T. fac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522520" y="765000"/>
            <a:ext cx="464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2522520" y="4206960"/>
            <a:ext cx="464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695600" y="0"/>
            <a:ext cx="6621480" cy="765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mean to be religio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understand the relationship between religion and spirituality and what makes man a spiritual be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522520" y="765000"/>
            <a:ext cx="469728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ggested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522520" y="1125360"/>
            <a:ext cx="469728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 activity word game: letters given to form a word. Students identify word. (Word is Transc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idering, in light of a Tillich comment, what students think our 2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entury idols are ( or finite centres of value and p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lides 10 to 13 consider the nature of religion and spirituality and the differences between humans and animal – with reference to Dewey, Ficino, Maslow and Fol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int off slide 10 to 13 and students to answer questions on slide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7219800" y="765000"/>
            <a:ext cx="194004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7236000" y="1125360"/>
            <a:ext cx="191268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lides 10 to 13 pri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4"/>
          <p:cNvSpPr/>
          <p:nvPr/>
        </p:nvSpPr>
        <p:spPr>
          <a:xfrm>
            <a:off x="1677960" y="3429000"/>
            <a:ext cx="6621480" cy="8240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counter with the D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-15840" y="4554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amine Eliot’s experience in the gardens of Burnt Norton within the context of Rudolf Otto, Abraham Maslow and the film American Beau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7"/>
          <p:cNvSpPr/>
          <p:nvPr/>
        </p:nvSpPr>
        <p:spPr>
          <a:xfrm>
            <a:off x="2506680" y="4194000"/>
            <a:ext cx="471312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8"/>
          <p:cNvSpPr/>
          <p:nvPr/>
        </p:nvSpPr>
        <p:spPr>
          <a:xfrm>
            <a:off x="2506680" y="4554360"/>
            <a:ext cx="4713120" cy="232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need to re-read the first movement of Burnt Norton (aloud). Ppt slides will examine this first movement and the mystical dimension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ight of the writings of Rudolf Otto and Abraham Maslow; whilst also placing Eliot’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within a modern day context via the Oscar winning film, American Beau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te a collage of experiences and comment (using callouts) on these experiences in light of the following: The writings of scholars on the subject of mysticism  drawing comparisons with Eliot’s experience in the gardens of Burnt Nor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9"/>
          <p:cNvSpPr/>
          <p:nvPr/>
        </p:nvSpPr>
        <p:spPr>
          <a:xfrm>
            <a:off x="7236000" y="4194000"/>
            <a:ext cx="190800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0"/>
          <p:cNvSpPr/>
          <p:nvPr/>
        </p:nvSpPr>
        <p:spPr>
          <a:xfrm>
            <a:off x="7236000" y="4554360"/>
            <a:ext cx="189684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T. fac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t slides 12, 14, 15, 16,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y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ue, scissor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 les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695600" y="0"/>
            <a:ext cx="6621480" cy="765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‘bind back’ – returning to Eden and ‘the still poin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amine how Eliot’s experience in the garden of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Burnt Norton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 relates to the symbolism of Eden, the etymological meaning of the word religion ‘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to bind back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’ and to the ‘still point’ reference, as originating in the cosmology of D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522520" y="112536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pt slide show will introduce students to Eden symbolism present in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Burnt Nort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 elsewhere in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Four Quartet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 the significance of the term ‘to bind back’ in light of the theme of reconciliation; and finally Dante’s cosmology and its relationship to Eliot’s use of the term ‘the still poin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will print out relevant slide and students should use this material to attempt the following questions: 1)How does Eliot’s symbolism of Eden and his experience in the garden of Burnt Norton relate to the word religion or ‘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to bind back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’? 2) How does Eliot’s reference to the ‘still point’ relate to Dante’s cosm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arnation and 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6"/>
          <p:cNvSpPr/>
          <p:nvPr/>
        </p:nvSpPr>
        <p:spPr>
          <a:xfrm>
            <a:off x="-36360" y="4554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consider the extent to which the terms ‘Incarnation’ and ‘Incantation’ can be used interchangeably or carry the same significance for Elio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uggested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2484360" y="4545000"/>
            <a:ext cx="49611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arter activity: Catchphr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tudents will consider how the previous discussion on the reconciliation of the ‘two worlds’ of value and power – the Timeless and Time – relates to Christian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lass will divide into three to take 10 minutes to scan through the first 3 poems of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o identify any lines which they think refer to Christian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pt slides will encourage the class to examine the term ‘Incarnation’ and further to consider it’s relationship to Eliot’s term ‘intersection’. Students will answer the question: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To what extent, do you think, the terms ‘Incarnation’ and ‘Intersection’ carry the same significance for Elio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2494080" y="4214880"/>
            <a:ext cx="49608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5600" y="0"/>
            <a:ext cx="6621480" cy="7650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packing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1125360"/>
            <a:ext cx="2522520" cy="230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Exploring the use of symbolism in the arts and everyday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2494080" y="1135080"/>
            <a:ext cx="493236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eracy starter – definition and synonyms for the term 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symbolism in the arts: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1650 portrait of Pope Innocent X Diego Velázquez. 1650/Study after 1650 portrait of Pope Innocent X. Francis Bacon. 1953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Examining symbolic elements of pictures and what the artist might be sugg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ty exploring symbolism in other Eliot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mbolism in every day life – unpacking symbols in everyday u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ask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Find your own example of symbolism – in any of the art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a partner to identify both the symbolic elements and what the artist might be sugg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.T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ligious Symbolism in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our Quar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amine Bultmann’s ideas concerning de-mythologisation in order to begin to understand the function of myth in religious language and the religious language used by Eliot in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tarter. Youtube link The Waterboys: The Return of Pan. Interpre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troduce slides about Rudolf Bultmann and de-mythologisation – outlining Bultmann’s reason for the need to dy-mythologise The New Testament. Link to traditions of Kahler and Less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eligion as context for spirituality: link to Plutarch and Chestert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Task: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Name as many denominations as you can in 1 min. Ti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Task: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de-mythologise Eliot New Testament referen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illich’s views on de-mythologis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Task: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 To what extent do you agree with Bultmann that the that the Christian message needs to be demythologised? Consider the dangers and benefits of de-mythologisation.</a:t>
            </a:r>
            <a:br>
              <a:rPr sz="1000"/>
            </a:b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695600" y="0"/>
            <a:ext cx="6621480" cy="7650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ystical Experience as Ineff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consider the issues and problems of ineffability whilst identifying where Eliot refers to the ineffable in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40160" y="114768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lesson to previous learning in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esson where mystic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experience is seen to be beyond ordinary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empirical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lanation and may be individual and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subjectiv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James’ criteria with reference to ineffability. Identify lines 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Eliot makes reference to ineff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s of term ‘mysticis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between subjective and objective experience and the problem of authenti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 activity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name is to destroy, to suggest is to create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liot and the Symbolist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plore the symbolist movement’s influence on Eliot in the writing of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and the musicality of the poem, as inspired by Beethoven’s Opus 132 in A min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troduce Eliot’s first encounter with Symbolists and consider the significance of this, in his own wor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utline characteristics of symbolist movement with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erence to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allarmé’s </a:t>
            </a:r>
            <a:r>
              <a:rPr b="0" i="1" lang="fr-FR" sz="10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0" i="1" lang="fr-FR" sz="1000" spc="-1" strike="noStrike">
                <a:solidFill>
                  <a:srgbClr val="000000"/>
                </a:solidFill>
                <a:latin typeface="Calibri"/>
              </a:rPr>
              <a:t>coup de des jamais n’abolira le hazar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Examine examples of symboliste influence in lines from </a:t>
            </a:r>
            <a:r>
              <a:rPr b="0" i="1" lang="fr-FR" sz="1000" spc="-1" strike="noStrike">
                <a:solidFill>
                  <a:srgbClr val="000000"/>
                </a:solidFill>
                <a:latin typeface="Calibri"/>
              </a:rPr>
              <a:t>Four Quart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ave a go at creating some verses of your own poem with dispersed text to evoke moods and silence.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nsider influence of Beethoven’s late string quartet – Opus 132 in A mino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xamine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s mus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nsider the extent of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allarmé’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influence on Eliot, with examp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T. research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Examine earlier poems fr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. S. Eliot which comment on the theme of suffering, in relation to the human condition and begin to explore this theme in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ur Quart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522520" y="112536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ine theme of suffering in lines from earlier poems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e Waste L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e Love Song Of J Alfred Prufrock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Eliot’s influence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to explore and examine the theme of suffering in lines 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urnt Norton, East Cok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ry Salvag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Discussion and questi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1928 poem – Animula. Students undertake P4C enquiry. Slides outline P4C process and give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Begin to explore th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change of classroom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 Budd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plore the origins of human suffering through Buddhist teaching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Brainbox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troducing Buddhist concept of suffering  (Dukkha) and the three states of suffe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ctivity: Identify and cut out examples of each of the different types of Dukkha, in newspapers provi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dentify these types of suffering inn the lines of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Four Quartets.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dd to coll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line teachings of the 8 fold path in relation to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Four Quartet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/2 les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1690560" y="0"/>
            <a:ext cx="6621480" cy="765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our Quarte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nd the Human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examine the purpose of suffering according to Christian teaching and consider how these teachings are reflected within FQ  (with reference to the theodicies of Irenaeus and Augustine; the coincidentia oppositurum of Nicholas of Cusa; and the mystical revelation of Julian of Norwich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begin to explore and develop understanding of the nature of ‘sin’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2522520" y="112536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Sequence story of Book of Job. Reflect on what the story might teach a Christian about suff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ffering as the great challenge to the existence of God: Epi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dicies of Irenaeus and Augu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ine ‘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e presence of evil is necessary to know good.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list of opposites. Nicholas of Cusa – reconciliation of opposites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ship of all the above to FQ  ‘Sin is behovely’ (Julian of Norwi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to explore the nature of sin in preparation for next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StartStarter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 Christianity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identify and examine Dante’s influence on FQ with special reference to the themes of love and s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arter: Name the 7 Deadly Sins. Match sins to defin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troduce Dante and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The Divine Come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pare Dante to FQ lines to judge influence and develop understand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xamine the nature of love from the perspective of The Divine Comedy and relate to lines from F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xplore the 7 Deadly Sins as portrayed in the Divine Comedy. Identify these sins in lifecast sculptures, recently exhibi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sider Dante’s influence in the terza rima section of the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ovement of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Burnt Nor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1690560" y="0"/>
            <a:ext cx="6621480" cy="765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our Quartet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d Christi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0" y="0"/>
            <a:ext cx="16956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765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1125360"/>
            <a:ext cx="25225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examine and explore our concept of wealth and the relationship of money to  freed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522520" y="765000"/>
            <a:ext cx="491184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522520" y="1125360"/>
            <a:ext cx="4932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Pick National Lottery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wealth? Government calc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te/Virgil on Fre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ties: Make a list of 10 things which give people freedom/ How many of these are money dependent?/Think of examples of freedom as w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survey of peoples’ attitude to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StSt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7434360" y="765000"/>
            <a:ext cx="17254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7434360" y="1125360"/>
            <a:ext cx="171432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8313840" y="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8317080" y="260280"/>
            <a:ext cx="826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3"/>
          <p:cNvSpPr/>
          <p:nvPr/>
        </p:nvSpPr>
        <p:spPr>
          <a:xfrm>
            <a:off x="-15840" y="3429000"/>
            <a:ext cx="169524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sson 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1679400" y="3429000"/>
            <a:ext cx="6621480" cy="765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Mystic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-15840" y="4194000"/>
            <a:ext cx="2522520" cy="360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-15840" y="4540320"/>
            <a:ext cx="2563920" cy="23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 develop our understanding of Eliot’s ‘intersection’ as a spiritual journey, within the context of Plato’s Cave Simile, Campbell’s Hero’s Journey and Underhill's’ Mystic Wa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7"/>
          <p:cNvSpPr/>
          <p:nvPr/>
        </p:nvSpPr>
        <p:spPr>
          <a:xfrm>
            <a:off x="2506680" y="4194000"/>
            <a:ext cx="4948200" cy="360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pt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8"/>
          <p:cNvSpPr/>
          <p:nvPr/>
        </p:nvSpPr>
        <p:spPr>
          <a:xfrm>
            <a:off x="2494080" y="4545000"/>
            <a:ext cx="496080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Define sin, base don previous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dom as ‘intersect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ing Plato’s Cave Simile. Relate to FQ as spiritual jour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a contemporary model of spiritual journey: Joseph Campbell ‘The Hero’s Journey. Video clip of ‘Finding Joe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list of 10 films demonstrating Hero’s Jour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examples of Hero’s Journey in films. Relate to Rudolf Otto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ine stages of Hero’s Jour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Evelyn Underhill’s Mystic Way and relate to both Plato and Camp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9"/>
          <p:cNvSpPr/>
          <p:nvPr/>
        </p:nvSpPr>
        <p:spPr>
          <a:xfrm>
            <a:off x="7470720" y="4194000"/>
            <a:ext cx="1673280" cy="36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0"/>
          <p:cNvSpPr/>
          <p:nvPr/>
        </p:nvSpPr>
        <p:spPr>
          <a:xfrm>
            <a:off x="7467480" y="4554360"/>
            <a:ext cx="1665360" cy="230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and 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full DVD – Finding Jo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1"/>
          <p:cNvSpPr/>
          <p:nvPr/>
        </p:nvSpPr>
        <p:spPr>
          <a:xfrm>
            <a:off x="8298000" y="3429000"/>
            <a:ext cx="83016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2"/>
          <p:cNvSpPr/>
          <p:nvPr/>
        </p:nvSpPr>
        <p:spPr>
          <a:xfrm>
            <a:off x="8300880" y="3689280"/>
            <a:ext cx="8272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1690560" y="0"/>
            <a:ext cx="6621480" cy="765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Exploring the Concept of W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1:04:40Z</dcterms:created>
  <dc:creator>Richard Brock</dc:creator>
  <dc:description/>
  <cp:keywords>Scheme Of Work</cp:keywords>
  <dc:language>en-US</dc:language>
  <cp:lastModifiedBy>Richard Brock</cp:lastModifiedBy>
  <cp:lastPrinted>2015-05-08T10:36:06Z</cp:lastPrinted>
  <dcterms:modified xsi:type="dcterms:W3CDTF">2015-06-09T11:10:35Z</dcterms:modified>
  <cp:revision>239</cp:revision>
  <dc:subject>Four Quartets: T.S. Eliot and Spirituality</dc:subject>
  <dc:title>Scheme Of Work</dc:title>
</cp:coreProperties>
</file>